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4B9-4E49-412E-ADD2-0009CD8C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04A-7490-4EC8-9F83-9C8DD0B2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012-187C-4CC5-A7EA-30979E9C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C2B-33AA-42BE-8EE3-36957640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DDF-6AD3-44AD-B1F7-2C0054AA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8B2-D317-48BC-BE70-87EBE3EA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D6B-82C1-40E0-86A1-1BDC176C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359-118B-478F-BF18-79EFB543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8A1-BF48-4FD0-BCE5-57D76DB5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2A9-E8CC-4D3A-B04C-C4E145C4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6A3-F221-49D9-B790-C7A16C14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1BC-3481-41E5-8AFD-7D05CBA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4B16-732A-46B7-95C5-DC79CF680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Condensed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7242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Saman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                                              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Gre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French Script MT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67680" y="6598800"/>
            <a:ext cx="763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2209680" cy="206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7621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French Script MT"/>
              </a:rPr>
              <a:t>El Toc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4724280"/>
            <a:ext cx="2600280" cy="175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682200" y="3961440"/>
            <a:ext cx="54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French Script MT"/>
              </a:rPr>
              <a:t>La Crisis Del Pan Cina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867280" y="12952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34320" y="533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ench Script MT"/>
              </a:rPr>
              <a:t>La Le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572000" y="4191120"/>
            <a:ext cx="2390760" cy="191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44956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French Script MT"/>
              </a:rPr>
              <a:t>      </a:t>
            </a:r>
            <a:r>
              <a:rPr b="1" lang="es-ES" sz="3200" spc="-1" strike="noStrike">
                <a:solidFill>
                  <a:srgbClr val="000000"/>
                </a:solidFill>
                <a:latin typeface="French Script MT"/>
              </a:rPr>
              <a:t>Las F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doni PosterCompressed"/>
              </a:rPr>
              <a:t>El  Almue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67680" y="6400800"/>
            <a:ext cx="763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1589040" cy="1771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45080" y="2592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doni PosterCompressed"/>
              </a:rPr>
              <a:t>Las  Papas  Fr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2667240" cy="185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78640" y="51361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doni PosterCompressed"/>
              </a:rPr>
              <a:t>El  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400800" y="10666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21800" y="304740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doni PosterCompressed"/>
              </a:rPr>
              <a:t>La  San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74760" y="55933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doni PosterCompressed"/>
              </a:rPr>
              <a:t>El  Zumo de  Nar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267080" y="335268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ill Sans MT Ext Condensed Bold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67680" y="662904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33552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El 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1866960" cy="2447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957720" y="281880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El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3429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933480" y="5714280"/>
            <a:ext cx="41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ill Sans MT Ext Condensed Bold"/>
              </a:rPr>
              <a:t>Las Zanahorias </a:t>
            </a: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Coc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876920" y="2971800"/>
            <a:ext cx="154296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6400" y="3657600"/>
            <a:ext cx="2291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El Que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Ched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Blan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Macar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Con Qu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Meri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67680" y="6523200"/>
            <a:ext cx="763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2590920" cy="1512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3124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Dor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2920" y="685800"/>
            <a:ext cx="1676160" cy="273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057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aja de Ju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33520" y="3809880"/>
            <a:ext cx="2466720" cy="2324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61722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Helado Chol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419720" y="4114800"/>
            <a:ext cx="2504880" cy="181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62520" y="6019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okie Cholcolate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27:58Z</dcterms:created>
  <dc:creator>greenesam</dc:creator>
  <dc:description/>
  <dc:language>en-US</dc:language>
  <cp:lastModifiedBy>greenesam</cp:lastModifiedBy>
  <dcterms:modified xsi:type="dcterms:W3CDTF">2012-04-05T13:55:03Z</dcterms:modified>
  <cp:revision>5</cp:revision>
  <dc:subject/>
  <dc:title>Las Comidas</dc:title>
</cp:coreProperties>
</file>